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D54-6EBA-4814-A6B7-8C2A2C1E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5FE-66B9-4982-9BB6-4CC8D751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953-EAB0-4793-AF0A-B923F897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728-71BC-45B0-BC2F-D6A22733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67F-620C-4500-9324-4083D6A6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C0B-218F-482C-B8AD-F57FF90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54B-F391-404D-9B5B-7CE0778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CD1-B9BC-4C3D-92D7-B275C9F3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F66-AD44-4666-B255-E2544485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532-F53C-4874-B08F-FED4F70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331-5E5F-4B2B-9F46-5B1357F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B8B-1E9B-44A0-BFA0-A35F16F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2617-A612-44F9-A8EF-FD4B50998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M5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5120" y="457200"/>
            <a:ext cx="779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سـماوات              تنـشـد مجــد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ســحابة               تنشــر لطفــ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ـنـيرات               ترفـع ســبح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         مع كل المخل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5791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101218" descr=""/>
          <p:cNvPicPr/>
          <p:nvPr/>
        </p:nvPicPr>
        <p:blipFill>
          <a:blip r:embed="rId1"/>
          <a:stretch/>
        </p:blipFill>
        <p:spPr>
          <a:xfrm>
            <a:off x="0" y="-21924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08840" y="583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98400" y="5913360"/>
            <a:ext cx="1169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480" y="838080"/>
            <a:ext cx="930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سهول والجبال             مع كل الرياحي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ن أعلى التـلال              مع همسة النس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نغمة الشـلال               وطهر الياسـ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مع زهـر البس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152" descr=""/>
          <p:cNvPicPr/>
          <p:nvPr/>
        </p:nvPicPr>
        <p:blipFill>
          <a:blip r:embed="rId1"/>
          <a:stretch/>
        </p:blipFill>
        <p:spPr>
          <a:xfrm>
            <a:off x="0" y="-29844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4816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59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276200" y="5715000"/>
            <a:ext cx="116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6560" y="2590920"/>
            <a:ext cx="1015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مياه البحــار  وامـتـداد المحي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خرير الأنهـ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نسكاب الينابـي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كـرم الأمطار والثـلج والجـ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ـلهـيـب نــا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7681351fPakcuKDUb_ph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كيــان  ينبـض بالحيـا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عصفور الجنائن  يغنـي للسـم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إنســانٍ يشـع بالرجـا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بصــرخة حنـان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91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بهاك في خلائق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9:04Z</dcterms:modified>
  <cp:revision>3</cp:revision>
  <dc:subject/>
  <dc:title>PowerPoint Presentation</dc:title>
</cp:coreProperties>
</file>